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7D7-A31E-4838-8CBB-17EA648F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655-2403-470C-8CBB-9EA113B5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5AF-81CF-45E5-993B-DCAEB740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75C-A422-4BDA-A9B4-4F85B1E2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074-AD13-46F9-8BFF-6A083B0C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69D8-0EF8-4BA1-B79D-DA653CB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B5ED-E68E-472B-B4F5-6F6F0167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FD9E-E103-447D-8426-50B05055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A52-9FC6-4662-8D72-FA652F05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3BB-0642-4E13-ACD6-5F70CC6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BB3E-7C76-457F-99DA-DE71DD8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04B-2B2C-4959-A8B0-C44759A7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431-AE24-4E3A-8403-79240D3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23F5-089A-4C79-9F58-91381A20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FEC6-B830-4F36-B934-51965CE3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3734-DA5C-4BE5-A159-03F884CD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5F07-5DA4-4A19-8085-701E46B0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D45A-EC0A-48BE-BEC5-D5C3748A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667C-7C03-4F78-A610-DA7ADE60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BF91-75AE-429A-A172-60D71935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6D73-5200-4C33-A54B-23615E5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B213-EFD0-44F0-B8E9-DF5A4130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7A6-C682-458D-AB68-E7D83DC9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6211B-085D-4494-95CD-4426A96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02A6-70A9-4CA4-98AB-A44B281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6810-BABE-48D5-99A2-A431E6E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7E7A-172B-4615-A272-59E7451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57B9-B6B4-4EA0-B68E-A099863F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094E-4925-43F1-B040-23941E3B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F8F6-0788-468F-BA72-A5966735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9185-70B1-40C0-92C2-B836EBDA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C2124-AC48-4622-AF3A-85E08A6A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87A4-C155-4AD0-81F2-73DBE4F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15F-BA00-41B6-84AA-0DC5DFC4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9DB4-EBB8-4B52-BE05-21FFF973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97F2-1C16-47F3-9679-A12BA33E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27A1-72CB-4001-9729-D79557ED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93F6-E837-432B-BCF2-37EAD21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87985-353A-484A-8D3D-5A230A1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61BC-B29B-446D-BBB2-B835865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C040-C663-4E4F-9C16-9CA3731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741E-69B3-40E4-B54F-490AC3AA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5D17-8B40-429D-8ECF-79B6844B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0CF70-DAD8-4E14-A37C-365EA569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F6E-426F-4E9B-B006-DACB1E10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A545F-0905-4C44-8E4C-D63373D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101B8-6674-4C2A-9410-E8EE0737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014113-EE1D-47AC-AAD7-EA27554E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D63CA-B362-401C-B2BF-6DA6796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5DAE2-1FDB-414D-AF34-C5D94C8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D3D65-1068-4646-98CC-5E3A916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28FDD-B3D4-41E3-8A56-627433F2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6C8DE-0EE6-4C4A-8134-1FFD105E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718E3-3999-4B02-85F9-2F1FD0B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F974C-4408-4E6E-8822-B24640E7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9C1-189E-4216-AFCF-A8AC70FE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22F0A-D03F-468F-A12E-15718788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B0F1-397E-4F88-9F7B-6EF23F9A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B5AB-E761-4666-83A6-069D8D3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6308-004E-4E20-88D3-FA82435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4D4C-1B71-46BA-8823-26C62C1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C273-6EEF-4B19-855D-F072A436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422B-500F-43D5-89B1-A832719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35F2B-C52F-4E1E-B2AC-3917AC8B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4404-1230-4C1E-B1E7-BA4FA4F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9B1E-D0E0-4034-B1D4-9082BADF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EFC-38BF-4AB9-82B8-DD345E9E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D0A0-451D-4199-AD0E-D27BE585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FB9F-7C31-40EF-B2D1-A5A3159C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78828-EB18-417D-A290-26EA8847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BB0-DE38-458C-A20A-3A403AA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B65-B124-4A2A-83B9-DA0FD0E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60F-3448-427B-B6F9-B223F653A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B83F-DA8F-4410-96A7-9304689D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CF5-2D02-4C0D-BBD5-4E032A127F1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A71-EC59-4EC2-8498-A9315F341AF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0041-12BA-4EAB-BBC4-A3FA3AE6D8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2B5E-9D80-4AEF-838A-111AE168AA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s Comida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Adam Gr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676160" cy="13622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7621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1905120" cy="13827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04812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s Huevos revuel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1828800" cy="1389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019920" y="3962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s Panque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1676520" y="4724280"/>
            <a:ext cx="1900080" cy="1737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057400" y="64911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724280" y="4724280"/>
            <a:ext cx="1847880" cy="17398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800600" y="6477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jugo de naran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Almuerz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el almuerzo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5335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Perro calie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276720" y="990720"/>
            <a:ext cx="2714400" cy="31003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3200400" y="3962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Hamburguesa con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6324480" y="243828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85800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2057400" y="4800600"/>
            <a:ext cx="1809720" cy="17064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905120" y="6491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 Hamburguesa de  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4876920" y="4800600"/>
            <a:ext cx="1596960" cy="17334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518148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refresc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e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la cena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616040" cy="16765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6858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124080" y="2514600"/>
            <a:ext cx="2048040" cy="15350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3276720" y="4114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Espague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6248520" y="2525760"/>
            <a:ext cx="1828800" cy="1547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6477120" y="40384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Sacó sándwich de carne de cer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2828880" cy="1602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00200" y="6248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stak y ques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4864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fin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4902120" cy="493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2:40Z</dcterms:created>
  <dc:creator>grangerada</dc:creator>
  <dc:description/>
  <dc:language>en-US</dc:language>
  <cp:lastModifiedBy>grangerada</cp:lastModifiedBy>
  <dcterms:modified xsi:type="dcterms:W3CDTF">2011-04-14T15:06:58Z</dcterms:modified>
  <cp:revision>3</cp:revision>
  <dc:subject/>
  <dc:title>Las Comidas</dc:title>
</cp:coreProperties>
</file>